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86258129"/>
        <c:axId val="82541124"/>
      </c:barChart>
      <c:catAx>
        <c:axId val="86258129"/>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2541124"/>
        <c:crosses val="autoZero"/>
        <c:auto val="1"/>
        <c:lblAlgn val="ctr"/>
        <c:lblOffset val="100"/>
        <c:noMultiLvlLbl val="0"/>
      </c:catAx>
      <c:valAx>
        <c:axId val="82541124"/>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6258129"/>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6FF39-B181-4BE1-B9BD-8D2736A7D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3C576-4178-463D-906F-B7215FBB9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87A30-BBAC-420D-8A5B-2ED2C9737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8B2BB-F6F9-4F2F-AFE6-425C2A933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48E2C9-FF4D-4C80-821A-284D4B38B2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AA338-046D-40DB-BEC9-6328795D48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4A111-78A9-4D8A-B99D-536964E88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C4E28-2E4E-45F4-B0EA-D9EB84E04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730DC-F23C-4ACC-8FCA-3B75081A6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C82D6-40F5-4ABD-B388-FCD5A28C6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2E8B4-8B7E-4AF5-8576-27030F0C0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39825-90CB-4AE2-9EB0-56EFC8432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3CA20-4C69-4104-8BF1-B7BBE5723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65A67-BEA2-46D5-A95F-19B104335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C9B94-18BF-4B9F-A79E-73B1F1E79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80BF08-EEB6-4F40-90A5-514D4499F0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365266-2FA1-4BA2-B9C9-FA08BA70C1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CA723-A525-411C-8A7F-D9F0010C7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04CE0-20AD-4D17-9F43-70206537C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957AF-7F8A-4780-B3DE-BAAF6A743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BBB13-C9E6-49F7-97E0-7D486B115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CB3B0-792A-48AF-8F1C-63CFB8753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E1FB5-D90A-4959-BE9F-8936B6E56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75247-AD73-4B84-A07F-621DE8C4A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1F7DE1-ABDB-4024-AE14-DF78DA55076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3717E5-025F-459E-A575-9E6FAC09DE4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